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ct" ContentType="image/x-pict"/>
  <Override PartName="/ppt/media/image21.jpeg" ContentType="image/jpeg"/>
  <Override PartName="/ppt/media/image5.jpeg" ContentType="image/jpeg"/>
  <Override PartName="/ppt/media/image23.pct" ContentType="image/x-pict"/>
  <Override PartName="/ppt/media/image10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30.png" ContentType="image/png"/>
  <Override PartName="/ppt/media/image11.png" ContentType="image/png"/>
  <Override PartName="/ppt/media/image9.pct" ContentType="image/x-pict"/>
  <Override PartName="/ppt/media/image4.jpeg" ContentType="image/jpeg"/>
  <Override PartName="/ppt/media/image32.png" ContentType="image/png"/>
  <Override PartName="/ppt/media/image2.png" ContentType="image/png"/>
  <Override PartName="/ppt/media/image31.png" ContentType="image/png"/>
  <Override PartName="/ppt/media/image3.png" ContentType="image/png"/>
  <Override PartName="/ppt/media/image14.png" ContentType="image/png"/>
  <Override PartName="/ppt/media/image15.png" ContentType="image/png"/>
  <Override PartName="/ppt/media/image13.pct" ContentType="image/x-pict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jpeg" ContentType="image/jpeg"/>
  <Override PartName="/ppt/media/image19.png" ContentType="image/png"/>
  <Override PartName="/ppt/media/image25.png" ContentType="image/png"/>
  <Override PartName="/ppt/media/image22.pct" ContentType="image/x-pict"/>
  <Override PartName="/ppt/media/image24.pct" ContentType="image/x-pict"/>
  <Override PartName="/ppt/media/image27.pct" ContentType="image/x-pict"/>
  <Override PartName="/ppt/media/image28.pct" ContentType="image/x-pict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CA46-9CBE-429D-85D8-2A97BF1AB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BD22-0628-4FBC-8526-BC3D10BFC935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352D-0301-40D8-87AA-5B27CFD0FD81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6EF7-60F3-4D24-A5CA-4CD7F041E086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your freedoms under the 1st amend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8AFC-0408-4109-87FA-72FAD8DA614D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D513-8836-44E1-9A03-1FFEECD82232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E294-D9B0-4121-9382-C624F5D10BB6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F151-B4E1-4D53-A26E-5C1500944BB9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EF90-2ACE-4C20-B4AD-855B498CBFB5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4F8C-F592-4539-A96E-E0A666447EF1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7BF5-32A9-4153-A083-5D497974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D21D-2037-4680-BCA7-F73AB27D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7BAD-9213-4B09-9988-5C047DD4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4021-28AA-42F1-A3CF-90015809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58CD-F889-463C-9C31-11ADB4C5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F6B3-6E96-4AAD-A50B-68FBA661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98B2-6F42-4CDB-B136-2EA2184D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5325-38BA-4E4E-85B5-8AB51E79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A026-DD5A-48B4-913F-E1D62DD7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12EE-17AD-458E-8F34-D74E48CA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5787-0DCD-4DB2-87CA-745B60C7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6B78-CC54-4B6F-BB9D-A48EEA2C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E6C2-D7DC-4D89-843A-E49B12EE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A868-283E-4878-8CEC-91FBD67A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56FE-1758-491D-93E3-DB9BACE3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3E4C-5E3D-43F8-B9A3-48C156EF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9F47-ECA5-4CD1-83F2-53091B95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0DA54-7A80-4A23-93A6-AFF5162B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1858B-56AA-4C51-B496-078C915B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4676E-0A7F-4CB8-9A5A-0028440D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5BD50-56F3-4319-9811-A5D105CA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4AD1B-5ECE-4952-BE76-955D0948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0975-E3E0-4A1C-8F4B-ECB549E7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E6820-92DD-4A98-B775-B40DC003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F672B-F228-4BF4-B42D-12C26329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E3AD1-52FB-4193-B41E-3F1D53F9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6959B-60C2-426D-81A8-2F9DB501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2C1A3-45A0-4893-9335-48A731E3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51504-0925-48FB-9648-454F7AEB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A8AC5-511B-4F02-8BF9-46967FC7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FBDA0-DEF5-4B2D-9FA1-C90F8A99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202DC-F4F9-4579-A224-4499E68A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29CF9-54BA-43B8-8C5F-72DE4724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4274-21CF-4857-A182-7F89C41D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BC5B4-3834-4098-A908-0FCB62B1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C8FF8-FB0A-4241-8122-858D090A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3AE94-BC87-4B27-A766-492D432A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E9907-B105-41F5-927A-89E3C675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28D86-4D92-4F40-9483-26AB8812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0A099-FFE4-400E-B6F8-ECBF389A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72D0F-0B6F-42DE-BAA7-33AC3419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27B24-A778-493B-9C87-A32B1A8C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BFC71-905E-442C-99C2-19FACB67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27866-C6BE-4678-8360-CEF3D903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33CC-EEA1-4435-AF26-CE3BA1B3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215B8-AEC6-4F96-9CF7-68B2CA4C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DF92F-D7CB-44E2-94DE-10E7BCDD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D2DEC-6B0D-4575-8F4F-9F5383EE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1AE2D-16D8-4C91-922C-75B2E41A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D3F8A-34DB-43A9-A6AC-2DB7503B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AB4F0-532A-4AB1-82E3-C6C4E462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94517-A410-479F-BFF5-21622DFE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D9555-983D-4427-9088-77757851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052DB-013A-4FEE-9928-07749504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F4B74-608C-4A93-BAC3-2D24FF33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6317-F92C-4F7B-94A4-3B9CF796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811C8-315D-4B92-AD64-99F9D2DD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C2F8B-4132-47B5-8097-FC0434FD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2468F-DCF2-4137-A9F8-AFE2FE70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6B689-28C8-4DC4-9420-F9FCC515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88784-EE87-4823-814C-5ED04288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FB493-B46F-404A-9402-F3A3A02E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A1DE8-DD7F-4FF9-BF01-4DD25E1C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FB4E6-12D9-4924-89E4-B826AA89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0ADCD-E470-4A78-9570-F5891E2D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89979-7E31-421C-8481-5091FE3A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8391-04D0-413D-9F93-6284A7E4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15AFC-AE92-42D0-92B3-B40A51B8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BA8E3-583F-4F70-A43A-63A9C64B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E6BC5-2B61-410E-95F8-17BC018D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05E01-A874-47B5-861A-EE7213ED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1EB16-7B6C-43F0-8D62-255AE2B6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EF17A-17D7-4C22-B854-BD5B24F4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39CCE-C78C-4F67-ADEB-E4F9666B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AB637-BD61-47F4-8596-1E41A37C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C6EB2-EF9B-4338-8F80-85342DD4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7A09B-D412-4D86-BE24-150902E2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2E34-2122-44E7-A7E5-30EA3279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E0161-D16B-4CC8-B483-94C7D874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B3EF9-2CB3-4278-A595-FBF2252A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0EA0D-07C6-4BA2-A543-C0498B66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F602E-D623-4012-BBC8-7545EDA8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EE1ED-BF66-4D1C-AADD-13A711A3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CAA2-0C67-4565-AEF9-BBF724F8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B992-7F8B-4663-B3EA-41B27A67742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C4D0-24AD-4776-8949-969A366751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36E9-A2E5-4C19-B3BD-36A095174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14CA-AEA2-4EF7-B8FE-1BA28DB99C6F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302C-6225-4774-8EC7-55E50B351E61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2880-643A-4AC9-A154-0D2053120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AF50-50AB-402B-A18D-E968C3ADBF6B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pct"/><Relationship Id="rId3" Type="http://schemas.openxmlformats.org/officeDocument/2006/relationships/image" Target="../media/image23.pct"/><Relationship Id="rId4" Type="http://schemas.openxmlformats.org/officeDocument/2006/relationships/image" Target="../media/image24.pct"/><Relationship Id="rId5" Type="http://schemas.openxmlformats.org/officeDocument/2006/relationships/image" Target="../media/image25.png"/><Relationship Id="rId6" Type="http://schemas.openxmlformats.org/officeDocument/2006/relationships/image" Target="../media/image26.pct"/><Relationship Id="rId7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image" Target="../media/image28.pct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ct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4724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Marker Felt"/>
              </a:rPr>
              <a:t>US Civics and Governance</a:t>
            </a:r>
            <a:endParaRPr b="0" lang="en-US" sz="9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066680" y="18284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bf60"/>
                </a:solidFill>
                <a:latin typeface="Chalkboard Bold"/>
              </a:rPr>
              <a:t>That’s Right!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bf60"/>
                </a:solidFill>
                <a:latin typeface="Chalkboard Bold"/>
              </a:rPr>
              <a:t>Freedom to Assemble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3352680" y="396252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7772400" cy="5486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merican Typewriter"/>
              </a:rPr>
              <a:t>What do each of these pictures demonstrate?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028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68360" cy="2340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030" descr=""/>
          <p:cNvPicPr/>
          <p:nvPr/>
        </p:nvPicPr>
        <p:blipFill>
          <a:blip r:embed="rId3"/>
          <a:stretch/>
        </p:blipFill>
        <p:spPr>
          <a:xfrm>
            <a:off x="6400800" y="457200"/>
            <a:ext cx="1533600" cy="1676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32" descr=""/>
          <p:cNvPicPr/>
          <p:nvPr/>
        </p:nvPicPr>
        <p:blipFill>
          <a:blip r:embed="rId4"/>
          <a:stretch/>
        </p:blipFill>
        <p:spPr>
          <a:xfrm>
            <a:off x="3505320" y="1676520"/>
            <a:ext cx="2244600" cy="27414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33" descr=""/>
          <p:cNvPicPr/>
          <p:nvPr/>
        </p:nvPicPr>
        <p:blipFill>
          <a:blip r:embed="rId5"/>
          <a:stretch/>
        </p:blipFill>
        <p:spPr>
          <a:xfrm>
            <a:off x="6934320" y="4267080"/>
            <a:ext cx="173340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34" descr=""/>
          <p:cNvPicPr/>
          <p:nvPr/>
        </p:nvPicPr>
        <p:blipFill>
          <a:blip r:embed="rId6"/>
          <a:stretch/>
        </p:blipFill>
        <p:spPr>
          <a:xfrm>
            <a:off x="304920" y="4495680"/>
            <a:ext cx="23065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7"/>
          <p:cNvSpPr/>
          <p:nvPr/>
        </p:nvSpPr>
        <p:spPr>
          <a:xfrm>
            <a:off x="762120" y="99072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000"/>
                </a:solidFill>
                <a:latin typeface="American Typewriter"/>
              </a:rPr>
              <a:t>That’s Right!</a:t>
            </a:r>
            <a:endParaRPr b="0" lang="en-US" sz="4800" spc="-1" strike="noStrike">
              <a:solidFill>
                <a:srgbClr val="ff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000"/>
                </a:solidFill>
                <a:latin typeface="American Typewriter"/>
              </a:rPr>
              <a:t>Freedom of the Press</a:t>
            </a:r>
            <a:endParaRPr b="0" lang="en-US" sz="48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329" name="Picture 8" descr=""/>
          <p:cNvPicPr/>
          <p:nvPr/>
        </p:nvPicPr>
        <p:blipFill>
          <a:blip r:embed="rId2"/>
          <a:stretch/>
        </p:blipFill>
        <p:spPr>
          <a:xfrm>
            <a:off x="3124080" y="3581280"/>
            <a:ext cx="2667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914400" y="1523880"/>
            <a:ext cx="701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ulder"/>
              </a:rPr>
              <a:t>What do each of these pictures demonstrate?</a:t>
            </a:r>
            <a:endParaRPr b="0" lang="en-US" sz="6000" spc="-1" strike="noStrike">
              <a:solidFill>
                <a:srgbClr val="ff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3560" cy="34704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228600" y="4038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Check yes or no</a:t>
            </a: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333" name="Picture 6" descr=""/>
          <p:cNvPicPr/>
          <p:nvPr/>
        </p:nvPicPr>
        <p:blipFill>
          <a:blip r:embed="rId2"/>
          <a:stretch/>
        </p:blipFill>
        <p:spPr>
          <a:xfrm>
            <a:off x="6553080" y="228600"/>
            <a:ext cx="2156040" cy="17524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7"/>
          <p:cNvSpPr/>
          <p:nvPr/>
        </p:nvSpPr>
        <p:spPr>
          <a:xfrm>
            <a:off x="3429000" y="1143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Sign here to agree</a:t>
            </a: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335" name="Picture 8" descr="Picture 2"/>
          <p:cNvPicPr/>
          <p:nvPr/>
        </p:nvPicPr>
        <p:blipFill>
          <a:blip r:embed="rId3"/>
          <a:stretch/>
        </p:blipFill>
        <p:spPr>
          <a:xfrm>
            <a:off x="3505320" y="2590920"/>
            <a:ext cx="367668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762120" y="99072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ulder"/>
              </a:rPr>
              <a:t>That’s Right!</a:t>
            </a:r>
            <a:endParaRPr b="0" lang="en-US" sz="4800" spc="-1" strike="noStrike">
              <a:solidFill>
                <a:srgbClr val="ff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ulder"/>
              </a:rPr>
              <a:t>Freedom to Petition</a:t>
            </a:r>
            <a:endParaRPr b="0" lang="en-US" sz="48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2"/>
          <a:stretch/>
        </p:blipFill>
        <p:spPr>
          <a:xfrm>
            <a:off x="3124080" y="3581280"/>
            <a:ext cx="2667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 rot="16200000">
            <a:off x="1143000" y="-1143000"/>
            <a:ext cx="6858000" cy="9144000"/>
          </a:xfrm>
          <a:prstGeom prst="rect">
            <a:avLst/>
          </a:prstGeom>
          <a:ln w="0">
            <a:noFill/>
          </a:ln>
        </p:spPr>
      </p:pic>
      <p:cxnSp>
        <p:nvCxnSpPr>
          <p:cNvPr id="339" name="AutoShape 13"/>
          <p:cNvCxnSpPr/>
          <p:nvPr/>
        </p:nvCxnSpPr>
        <p:spPr>
          <a:xfrm>
            <a:off x="4495320" y="1257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AutoShape 14"/>
          <p:cNvCxnSpPr/>
          <p:nvPr/>
        </p:nvCxnSpPr>
        <p:spPr>
          <a:xfrm>
            <a:off x="4495320" y="1257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1" name="Text Box 16"/>
          <p:cNvSpPr/>
          <p:nvPr/>
        </p:nvSpPr>
        <p:spPr>
          <a:xfrm>
            <a:off x="1828800" y="3808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R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eligion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2" name="Text Box 17"/>
          <p:cNvSpPr/>
          <p:nvPr/>
        </p:nvSpPr>
        <p:spPr>
          <a:xfrm>
            <a:off x="1752480" y="144792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A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ssemble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3" name="Text Box 18"/>
          <p:cNvSpPr/>
          <p:nvPr/>
        </p:nvSpPr>
        <p:spPr>
          <a:xfrm>
            <a:off x="1752480" y="251460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P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etition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1371600" y="35812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P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ress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5" name="Text Box 20"/>
          <p:cNvSpPr/>
          <p:nvPr/>
        </p:nvSpPr>
        <p:spPr>
          <a:xfrm>
            <a:off x="1600200" y="46162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S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peech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5" descr=""/>
          <p:cNvPicPr/>
          <p:nvPr/>
        </p:nvPicPr>
        <p:blipFill>
          <a:blip r:embed="rId1"/>
          <a:stretch/>
        </p:blipFill>
        <p:spPr>
          <a:xfrm>
            <a:off x="682560" y="2279520"/>
            <a:ext cx="7778880" cy="1152720"/>
          </a:xfrm>
          <a:prstGeom prst="rect">
            <a:avLst/>
          </a:prstGeom>
          <a:ln w="0">
            <a:noFill/>
          </a:ln>
        </p:spPr>
      </p:pic>
      <p:pic>
        <p:nvPicPr>
          <p:cNvPr id="347" name="Subtitle 6" descr=""/>
          <p:cNvPicPr/>
          <p:nvPr/>
        </p:nvPicPr>
        <p:blipFill>
          <a:blip r:embed="rId2"/>
          <a:stretch/>
        </p:blipFill>
        <p:spPr>
          <a:xfrm>
            <a:off x="1365120" y="3730680"/>
            <a:ext cx="641376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4724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arker Felt"/>
              </a:rPr>
              <a:t>What 1</a:t>
            </a:r>
            <a:r>
              <a:rPr b="0" lang="en-US" sz="6000" spc="-1" strike="noStrike" baseline="30000">
                <a:solidFill>
                  <a:srgbClr val="000000"/>
                </a:solidFill>
                <a:latin typeface="Marker Felt"/>
              </a:rPr>
              <a:t>st</a:t>
            </a:r>
            <a:r>
              <a:rPr b="0" lang="en-US" sz="6000" spc="-1" strike="noStrike">
                <a:solidFill>
                  <a:srgbClr val="000000"/>
                </a:solidFill>
                <a:latin typeface="Marker Felt"/>
              </a:rPr>
              <a:t> amendment rights are depicted in each of these pictures?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1793880" cy="2211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Picture 1"/>
          <p:cNvPicPr/>
          <p:nvPr/>
        </p:nvPicPr>
        <p:blipFill>
          <a:blip r:embed="rId3"/>
          <a:stretch/>
        </p:blipFill>
        <p:spPr>
          <a:xfrm>
            <a:off x="380880" y="3886200"/>
            <a:ext cx="4103640" cy="27338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Picture 2"/>
          <p:cNvPicPr/>
          <p:nvPr/>
        </p:nvPicPr>
        <p:blipFill>
          <a:blip r:embed="rId4"/>
          <a:stretch/>
        </p:blipFill>
        <p:spPr>
          <a:xfrm>
            <a:off x="6019920" y="533520"/>
            <a:ext cx="2361960" cy="22096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Picture 3"/>
          <p:cNvPicPr/>
          <p:nvPr/>
        </p:nvPicPr>
        <p:blipFill>
          <a:blip r:embed="rId5"/>
          <a:stretch/>
        </p:blipFill>
        <p:spPr>
          <a:xfrm>
            <a:off x="6324480" y="4114800"/>
            <a:ext cx="1981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7315200" cy="21337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That’s Right!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Freedom of Speech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2"/>
          <a:stretch/>
        </p:blipFill>
        <p:spPr>
          <a:xfrm>
            <a:off x="3352680" y="396252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09480" y="2361960"/>
            <a:ext cx="7315200" cy="1447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What do each of these</a:t>
            </a:r>
            <a:endParaRPr b="0" lang="en-US" sz="4800" spc="-1" strike="noStrike">
              <a:solidFill>
                <a:srgbClr val="ff8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pictures demonstrate?</a:t>
            </a:r>
            <a:endParaRPr b="0" lang="en-US" sz="48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5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6019920" y="228600"/>
            <a:ext cx="2921040" cy="23367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"/>
          <p:cNvPicPr/>
          <p:nvPr/>
        </p:nvPicPr>
        <p:blipFill>
          <a:blip r:embed="rId3"/>
          <a:stretch/>
        </p:blipFill>
        <p:spPr>
          <a:xfrm>
            <a:off x="380880" y="4038480"/>
            <a:ext cx="2095560" cy="2210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"/>
          <p:cNvPicPr/>
          <p:nvPr/>
        </p:nvPicPr>
        <p:blipFill>
          <a:blip r:embed="rId4"/>
          <a:stretch/>
        </p:blipFill>
        <p:spPr>
          <a:xfrm>
            <a:off x="6324480" y="411480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9" descr=""/>
          <p:cNvPicPr/>
          <p:nvPr/>
        </p:nvPicPr>
        <p:blipFill>
          <a:blip r:embed="rId5"/>
          <a:stretch/>
        </p:blipFill>
        <p:spPr>
          <a:xfrm>
            <a:off x="3200400" y="2133720"/>
            <a:ext cx="23241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315200" cy="1447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That’s Right!</a:t>
            </a:r>
            <a:endParaRPr b="0" lang="en-US" sz="4800" spc="-1" strike="noStrike">
              <a:solidFill>
                <a:srgbClr val="ff8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Freedom of Religion</a:t>
            </a:r>
            <a:endParaRPr b="0" lang="en-US" sz="4800" spc="-1" strike="noStrike">
              <a:solidFill>
                <a:srgbClr val="ff8000"/>
              </a:solidFill>
              <a:latin typeface="Tahoma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2"/>
          <a:stretch/>
        </p:blipFill>
        <p:spPr>
          <a:xfrm>
            <a:off x="3352680" y="3886200"/>
            <a:ext cx="2438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438280" y="1905120"/>
            <a:ext cx="5181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bf60"/>
                </a:solidFill>
                <a:latin typeface="Chalkboard Bold"/>
              </a:rPr>
              <a:t>What do each of these pictures demonstrate?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b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Picture 6"/>
          <p:cNvPicPr/>
          <p:nvPr/>
        </p:nvPicPr>
        <p:blipFill>
          <a:blip r:embed="rId1"/>
          <a:stretch/>
        </p:blipFill>
        <p:spPr>
          <a:xfrm>
            <a:off x="2286000" y="3048120"/>
            <a:ext cx="5180040" cy="3276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civil disobedience"/>
          <p:cNvPicPr/>
          <p:nvPr/>
        </p:nvPicPr>
        <p:blipFill>
          <a:blip r:embed="rId2"/>
          <a:stretch/>
        </p:blipFill>
        <p:spPr>
          <a:xfrm>
            <a:off x="304920" y="304920"/>
            <a:ext cx="2819160" cy="23619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civil disobedience 2"/>
          <p:cNvPicPr/>
          <p:nvPr/>
        </p:nvPicPr>
        <p:blipFill>
          <a:blip r:embed="rId3"/>
          <a:stretch/>
        </p:blipFill>
        <p:spPr>
          <a:xfrm>
            <a:off x="6553080" y="380880"/>
            <a:ext cx="2210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7:56:58Z</dcterms:created>
  <dc:creator>Mary Lynn Coyne</dc:creator>
  <dc:description/>
  <dc:language>en-US</dc:language>
  <cp:lastModifiedBy>Brittany  Arnold</cp:lastModifiedBy>
  <dcterms:modified xsi:type="dcterms:W3CDTF">2012-04-18T16:16:46Z</dcterms:modified>
  <cp:revision>21</cp:revision>
  <dc:subject/>
  <dc:title>PowerPoint Presentation</dc:title>
</cp:coreProperties>
</file>